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E7B5-369E-45C6-A0B3-7A608FBEB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032B-23B0-4FAD-BF9D-A83DDDD87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B1A4-07B8-4EA4-AFBC-0E99F0D6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F53D-14A7-4770-92C5-3C31DEE07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0671B-55EF-419C-AAA0-6CAE2218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227D-ECC7-4F82-83F1-6B44D4AC5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E194-0581-498A-8D34-3DD8914F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E75B-7C4F-412E-8030-A96DDF940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2C0C4-E158-41B2-A4A9-9E4C0DAA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9A28-851C-43D2-A613-02BF2CDB8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F07E-C664-4C4D-B089-DD09CE19D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81D04-A946-4F76-BDBE-46A11A23C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BB391-362D-4C41-95A4-BC8BB477B2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44000" cy="69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3T13:33:09Z</dcterms:created>
  <dc:creator>INVES-S6600A</dc:creator>
  <dc:description/>
  <dc:language>en-US</dc:language>
  <cp:lastModifiedBy>INVES-S6600A</cp:lastModifiedBy>
  <dcterms:modified xsi:type="dcterms:W3CDTF">2010-11-23T13:33:33Z</dcterms:modified>
  <cp:revision>1</cp:revision>
  <dc:subject/>
  <dc:title>Diapositiva 1</dc:title>
</cp:coreProperties>
</file>